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0B32E-C90E-417E-A5FA-9433AEDBA9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K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6CF30-955C-494C-9C3C-DF5BEA2748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43A70-DC44-4F42-961D-0E4F91BD5C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K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55D50-CFB1-4AFA-AB8F-7A83A33D4D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DB36A-FBB4-4C0F-808E-C35C51B67A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E8820-952A-4A51-BF24-AA17320C47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B6F64-334F-4B20-808C-40AA927F36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7A81D-1034-4FB8-9716-52242C4A0B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A704-CA06-44E4-A185-CA4518E74EC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E0C0-2BDA-4176-A3D0-44DED25622D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DE32-28DC-40DD-8C04-C97B8A92ED7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31AE-17D0-4541-A3E8-AD777DA690F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521C-8307-4525-8296-49984BDC36B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0399-80FC-4CF2-BDA3-588756FA59E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F8F0-4F35-4767-9552-119C0ADDCB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127AF-02B9-42DC-B468-946B39A702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7602-B7B9-4DC2-9B3C-10740B1F1E8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8790-194D-44D3-AE1D-1997E5550F5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86B7-2747-432D-B0E0-A28174B4EF5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01A7-CFFC-4524-9E8B-8BDB680E7DA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5494-7EC3-41FF-A932-E850A11D7D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43353-B89F-46EE-83AF-47F2DBD4B2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FECB4-7E31-44FF-AB7A-FE852E35ED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649FF-4770-44DF-8659-F478B37D76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4CCBE-82FD-4C52-9E6B-DC6B57F3F2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B7F89-A4A7-4F17-8F45-BC9E83A7F0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2F258-5607-4F1D-BC9A-489AC66DB7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BC6E8-F43C-4E05-807B-01EBAB7D73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rcRect l="0" t="16908" r="0" b="0"/>
          <a:stretch/>
        </p:blipFill>
        <p:spPr>
          <a:xfrm>
            <a:off x="0" y="0"/>
            <a:ext cx="9140760" cy="609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336240">
              <a:spcBef>
                <a:spcPts val="799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16640" indent="-337680">
              <a:spcBef>
                <a:spcPts val="7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56120" indent="-337680">
              <a:spcBef>
                <a:spcPts val="799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95600" indent="-337680">
              <a:spcBef>
                <a:spcPts val="7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95600" indent="-337680">
              <a:spcBef>
                <a:spcPts val="7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95600" indent="-337680">
              <a:spcBef>
                <a:spcPts val="7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3429000" y="6248520"/>
            <a:ext cx="5715000" cy="457200"/>
            <a:chOff x="3429000" y="6248520"/>
            <a:chExt cx="5715000" cy="457200"/>
          </a:xfrm>
        </p:grpSpPr>
        <p:sp>
          <p:nvSpPr>
            <p:cNvPr id="3" name="Line 5"/>
            <p:cNvSpPr/>
            <p:nvPr/>
          </p:nvSpPr>
          <p:spPr>
            <a:xfrm>
              <a:off x="4024440" y="6307200"/>
              <a:ext cx="5119560" cy="0"/>
            </a:xfrm>
            <a:prstGeom prst="line">
              <a:avLst/>
            </a:prstGeom>
            <a:ln w="76320">
              <a:solidFill>
                <a:srgbClr val="ca53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429000" y="6248520"/>
              <a:ext cx="5616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r" pos="38894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© 2009 South-Western, Cengage Learn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3657600" y="6248520"/>
              <a:ext cx="1828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r" pos="38894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400" spc="-1" strike="noStrike">
                  <a:solidFill>
                    <a:srgbClr val="3f7ebd"/>
                  </a:solidFill>
                  <a:latin typeface="Arial"/>
                </a:rPr>
                <a:t>MARKE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ftr" idx="1"/>
          </p:nvPr>
        </p:nvSpPr>
        <p:spPr>
          <a:xfrm>
            <a:off x="685800" y="6171840"/>
            <a:ext cx="3200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2800" spc="-1" strike="noStrike">
                <a:solidFill>
                  <a:srgbClr val="b9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0" y="6296040"/>
            <a:ext cx="1371600" cy="0"/>
          </a:xfrm>
          <a:prstGeom prst="line">
            <a:avLst/>
          </a:prstGeom>
          <a:ln w="76320">
            <a:solidFill>
              <a:srgbClr val="00a5e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0" y="1752480"/>
            <a:ext cx="4570560" cy="10980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solidFill>
            <a:srgbClr val="b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2"/>
          </p:nvPr>
        </p:nvSpPr>
        <p:spPr>
          <a:xfrm>
            <a:off x="8457840" y="-360"/>
            <a:ext cx="68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4E3DE-F556-425E-BB75-13C1F3996EB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23144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Group 6"/>
          <p:cNvGrpSpPr/>
          <p:nvPr/>
        </p:nvGrpSpPr>
        <p:grpSpPr>
          <a:xfrm>
            <a:off x="3429000" y="6248520"/>
            <a:ext cx="5715000" cy="457200"/>
            <a:chOff x="3429000" y="6248520"/>
            <a:chExt cx="5715000" cy="457200"/>
          </a:xfrm>
        </p:grpSpPr>
        <p:sp>
          <p:nvSpPr>
            <p:cNvPr id="52" name="Line 7"/>
            <p:cNvSpPr/>
            <p:nvPr/>
          </p:nvSpPr>
          <p:spPr>
            <a:xfrm>
              <a:off x="4024440" y="6307200"/>
              <a:ext cx="5119560" cy="0"/>
            </a:xfrm>
            <a:prstGeom prst="line">
              <a:avLst/>
            </a:prstGeom>
            <a:ln w="76320">
              <a:solidFill>
                <a:srgbClr val="ca53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8"/>
            <p:cNvSpPr/>
            <p:nvPr/>
          </p:nvSpPr>
          <p:spPr>
            <a:xfrm>
              <a:off x="3429000" y="6248520"/>
              <a:ext cx="5616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r" pos="38894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© 2009 South-Western, Cengage Learn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9"/>
            <p:cNvSpPr/>
            <p:nvPr/>
          </p:nvSpPr>
          <p:spPr>
            <a:xfrm>
              <a:off x="3657600" y="6248520"/>
              <a:ext cx="1828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r" pos="38894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400" spc="-1" strike="noStrike">
                  <a:solidFill>
                    <a:srgbClr val="3f7ebd"/>
                  </a:solidFill>
                  <a:latin typeface="Arial"/>
                </a:rPr>
                <a:t>MARKE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Line 10"/>
          <p:cNvSpPr/>
          <p:nvPr/>
        </p:nvSpPr>
        <p:spPr>
          <a:xfrm>
            <a:off x="0" y="6296040"/>
            <a:ext cx="1371600" cy="0"/>
          </a:xfrm>
          <a:prstGeom prst="line">
            <a:avLst/>
          </a:prstGeom>
          <a:ln w="76320">
            <a:solidFill>
              <a:srgbClr val="00a5e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1"/>
          <p:cNvSpPr/>
          <p:nvPr/>
        </p:nvSpPr>
        <p:spPr>
          <a:xfrm>
            <a:off x="0" y="2514600"/>
            <a:ext cx="1371600" cy="0"/>
          </a:xfrm>
          <a:prstGeom prst="line">
            <a:avLst/>
          </a:prstGeom>
          <a:ln w="76320">
            <a:solidFill>
              <a:srgbClr val="00a5e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solidFill>
            <a:srgbClr val="b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336240">
              <a:spcBef>
                <a:spcPts val="799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16640" indent="-337680">
              <a:spcBef>
                <a:spcPts val="7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56120" indent="-337680">
              <a:spcBef>
                <a:spcPts val="799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95600" indent="-337680">
              <a:spcBef>
                <a:spcPts val="7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95600" indent="-337680">
              <a:spcBef>
                <a:spcPts val="7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95600" indent="-337680">
              <a:spcBef>
                <a:spcPts val="7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Num" idx="3"/>
          </p:nvPr>
        </p:nvSpPr>
        <p:spPr>
          <a:xfrm>
            <a:off x="8457840" y="-360"/>
            <a:ext cx="68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9279E-6D4C-4D9F-B2FB-551FE80DC49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4"/>
          </p:nvPr>
        </p:nvSpPr>
        <p:spPr>
          <a:xfrm>
            <a:off x="685800" y="6171840"/>
            <a:ext cx="3200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2800" spc="-1" strike="noStrike">
                <a:solidFill>
                  <a:srgbClr val="b9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3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FD5D4-F547-4F6A-BA22-257C44D405B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MARKETING STARTS </a:t>
            </a:r>
            <a:br>
              <a:rPr sz="4000"/>
            </a:b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WITH CUSTOMERS</a:t>
            </a:r>
            <a:endParaRPr b="1" lang="en-US" sz="40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685800" y="2742840"/>
            <a:ext cx="7772400" cy="34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95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a5302"/>
                </a:solidFill>
                <a:latin typeface="Arial"/>
              </a:rPr>
              <a:t>6-1</a:t>
            </a:r>
            <a:r>
              <a:rPr b="1" lang="en-US" sz="3200" spc="-1" strike="noStrike">
                <a:solidFill>
                  <a:srgbClr val="ca530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ing Consumer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5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a5302"/>
                </a:solidFill>
                <a:latin typeface="Arial"/>
              </a:rPr>
              <a:t>6-2</a:t>
            </a:r>
            <a:r>
              <a:rPr b="1" lang="en-US" sz="3200" spc="-1" strike="noStrike">
                <a:solidFill>
                  <a:srgbClr val="ca530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Motivates Buy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5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a5302"/>
                </a:solidFill>
                <a:latin typeface="Arial"/>
              </a:rPr>
              <a:t>6-3</a:t>
            </a:r>
            <a:r>
              <a:rPr b="1" lang="en-US" sz="3200" spc="-1" strike="noStrike">
                <a:solidFill>
                  <a:srgbClr val="ca530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luencing Consumer Dec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6"/>
          <p:cNvSpPr/>
          <p:nvPr/>
        </p:nvSpPr>
        <p:spPr>
          <a:xfrm>
            <a:off x="152280" y="152280"/>
            <a:ext cx="1371600" cy="1143000"/>
          </a:xfrm>
          <a:prstGeom prst="roundRect">
            <a:avLst>
              <a:gd name="adj" fmla="val 16667"/>
            </a:avLst>
          </a:prstGeom>
          <a:solidFill>
            <a:srgbClr val="ca53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HAPTER</a:t>
            </a:r>
            <a:br>
              <a:rPr sz="32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6887F-C90C-4272-B620-B22BCB98B3D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WHAT MOTIVATES</a:t>
            </a:r>
            <a:br>
              <a:rPr sz="3600"/>
            </a:b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BUYERS?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cc00"/>
                </a:solidFill>
                <a:latin typeface="Arial"/>
              </a:rPr>
              <a:t>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inguish the types of buying mot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the five steps of the consumer decision-making pro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8"/>
          <p:cNvSpPr/>
          <p:nvPr/>
        </p:nvSpPr>
        <p:spPr>
          <a:xfrm>
            <a:off x="152280" y="152280"/>
            <a:ext cx="1371600" cy="914400"/>
          </a:xfrm>
          <a:prstGeom prst="roundRect">
            <a:avLst>
              <a:gd name="adj" fmla="val 16667"/>
            </a:avLst>
          </a:prstGeom>
          <a:solidFill>
            <a:srgbClr val="ca53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-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9B22D-7222-4C53-8B28-C2FB1328E35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Motivation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otiv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he set of positive or negative factors that direct individual behavi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uying Motiv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he reason that you bu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700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decisions to spend money on products and services are influenced by buying motiv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25D66-3A9C-4691-AE08-FE94A8D0BAD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3 Categories of Buying Motives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motional motiv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reasons to purchase based to feelings, beliefs, or attitu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s of love, affection, guilt, fear, or passion often compel consumers to bu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llmark Cards &amp; Gifts – Love, Af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 Systems – F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C84EB-BB0B-434A-A384-C881F17C6FA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3 Categories of Buying Motives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tional motiv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reasons to buy based on facts or log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s of Rational: Saving time or money; Obtaining highest quality or greatest val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 for Expensive Purcha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usiness consumers try to avoid emotional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75D0F-DB43-4FF8-BF16-CE1590D2075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3 Categories of Buying Motives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atronage motiv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based on loyal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courage consumers to purchase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articular business or particular br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yalty is influenced by positive previous experiences or close identification with the product or busi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 prices, high quality, friendly staff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 customer service, convenient 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9E2C2-7462-4E63-B281-8C300C1E94B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f7ebd"/>
                </a:solidFill>
                <a:latin typeface="Arial"/>
              </a:rPr>
              <a:t>Customer Decision-Making Process</a:t>
            </a:r>
            <a:endParaRPr b="1" lang="en-US" sz="32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uying Behavi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he decision process and actions of consumers as they bu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sumer Decision-Making Proce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he process by which consumers collect and analyze information to make choices among alternat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1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Slide Number Placeholder 2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CC5A3-AD1E-4805-8AA7-5768C3D57E3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464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7ebd"/>
                </a:solidFill>
                <a:latin typeface="Arial"/>
              </a:rPr>
              <a:t>The Consumer</a:t>
            </a:r>
            <a:br>
              <a:rPr sz="2800"/>
            </a:br>
            <a:r>
              <a:rPr b="1" lang="en-US" sz="2800" spc="-1" strike="noStrike">
                <a:solidFill>
                  <a:srgbClr val="3f7ebd"/>
                </a:solidFill>
                <a:latin typeface="Arial"/>
              </a:rPr>
              <a:t>Decision-Making Process</a:t>
            </a:r>
            <a:endParaRPr b="1" lang="en-US" sz="28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98" name="Oval 5"/>
          <p:cNvSpPr/>
          <p:nvPr/>
        </p:nvSpPr>
        <p:spPr>
          <a:xfrm>
            <a:off x="785880" y="5410080"/>
            <a:ext cx="3108240" cy="868320"/>
          </a:xfrm>
          <a:prstGeom prst="ellipse">
            <a:avLst/>
          </a:prstGeom>
          <a:solidFill>
            <a:srgbClr val="ffe18d"/>
          </a:solidFill>
          <a:ln w="0">
            <a:noFill/>
          </a:ln>
          <a:effectLst>
            <a:outerShdw dist="153753" dir="2700000" blurRad="0" rotWithShape="0">
              <a:srgbClr val="b9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5302"/>
                </a:solidFill>
                <a:latin typeface="Arial"/>
              </a:rPr>
              <a:t>Problem 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Oval 7"/>
          <p:cNvSpPr/>
          <p:nvPr/>
        </p:nvSpPr>
        <p:spPr>
          <a:xfrm>
            <a:off x="1886040" y="4210200"/>
            <a:ext cx="3108240" cy="868320"/>
          </a:xfrm>
          <a:prstGeom prst="ellipse">
            <a:avLst/>
          </a:prstGeom>
          <a:solidFill>
            <a:srgbClr val="ffe18d"/>
          </a:solidFill>
          <a:ln w="0">
            <a:noFill/>
          </a:ln>
          <a:effectLst>
            <a:outerShdw dist="153753" dir="2700000" blurRad="0" rotWithShape="0">
              <a:srgbClr val="b9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5302"/>
                </a:solidFill>
                <a:latin typeface="Arial"/>
              </a:rPr>
              <a:t>Information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Oval 8"/>
          <p:cNvSpPr/>
          <p:nvPr/>
        </p:nvSpPr>
        <p:spPr>
          <a:xfrm>
            <a:off x="2984400" y="3009960"/>
            <a:ext cx="3108600" cy="868320"/>
          </a:xfrm>
          <a:prstGeom prst="ellipse">
            <a:avLst/>
          </a:prstGeom>
          <a:solidFill>
            <a:srgbClr val="ffe18d"/>
          </a:solidFill>
          <a:ln w="0">
            <a:noFill/>
          </a:ln>
          <a:effectLst>
            <a:outerShdw dist="153753" dir="2700000" blurRad="0" rotWithShape="0">
              <a:srgbClr val="b9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5302"/>
                </a:solidFill>
                <a:latin typeface="Arial"/>
              </a:rPr>
              <a:t>Alternative 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Oval 9"/>
          <p:cNvSpPr/>
          <p:nvPr/>
        </p:nvSpPr>
        <p:spPr>
          <a:xfrm>
            <a:off x="4083120" y="1809720"/>
            <a:ext cx="3108240" cy="868320"/>
          </a:xfrm>
          <a:prstGeom prst="ellipse">
            <a:avLst/>
          </a:prstGeom>
          <a:solidFill>
            <a:srgbClr val="ffe18d"/>
          </a:solidFill>
          <a:ln w="0">
            <a:noFill/>
          </a:ln>
          <a:effectLst>
            <a:outerShdw dist="153753" dir="2700000" blurRad="0" rotWithShape="0">
              <a:srgbClr val="b9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5302"/>
                </a:solidFill>
                <a:latin typeface="Arial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Oval 10"/>
          <p:cNvSpPr/>
          <p:nvPr/>
        </p:nvSpPr>
        <p:spPr>
          <a:xfrm>
            <a:off x="5181480" y="609480"/>
            <a:ext cx="3108600" cy="868320"/>
          </a:xfrm>
          <a:prstGeom prst="ellipse">
            <a:avLst/>
          </a:prstGeom>
          <a:solidFill>
            <a:srgbClr val="ffe18d"/>
          </a:solidFill>
          <a:ln w="0">
            <a:noFill/>
          </a:ln>
          <a:effectLst>
            <a:outerShdw dist="153753" dir="2700000" blurRad="0" rotWithShape="0">
              <a:srgbClr val="b9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5302"/>
                </a:solidFill>
                <a:latin typeface="Arial"/>
              </a:rPr>
              <a:t>Postpurchase 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12"/>
          <p:cNvSpPr/>
          <p:nvPr/>
        </p:nvSpPr>
        <p:spPr>
          <a:xfrm flipV="1">
            <a:off x="3352680" y="914040"/>
            <a:ext cx="4648320" cy="5257800"/>
          </a:xfrm>
          <a:prstGeom prst="line">
            <a:avLst/>
          </a:prstGeom>
          <a:ln w="76320">
            <a:solidFill>
              <a:srgbClr val="3f7ebd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WordArt 19"/>
          <p:cNvSpPr txBox="1"/>
          <p:nvPr/>
        </p:nvSpPr>
        <p:spPr>
          <a:xfrm>
            <a:off x="6477120" y="5410080"/>
            <a:ext cx="2307960" cy="48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age 164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ransition spd="slow">
    <p:wipe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01497-9FE5-4355-B595-23E92F1B96E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f7ebd"/>
                </a:solidFill>
                <a:latin typeface="Arial"/>
              </a:rPr>
              <a:t>Customer Decision-Making Process</a:t>
            </a:r>
            <a:endParaRPr b="1" lang="en-US" sz="32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 Recognition – Recognize a need, desire, or problem. How urgent is it? Time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 Sear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700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Problem - relatively easy to identif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700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Problem - more difficult to find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0D67F-3588-4602-8598-EA445711D45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f7ebd"/>
                </a:solidFill>
                <a:latin typeface="Arial"/>
              </a:rPr>
              <a:t>Customer Decision-Making Process</a:t>
            </a:r>
            <a:endParaRPr b="1" lang="en-US" sz="32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ive Evaluation – review information gathered and determine which is b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chase – what product, what price, payment method, how to receive product.</a:t>
            </a:r>
            <a:br>
              <a:rPr sz="32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-Purchase Evaluation – did it meet the need or solve the problem? Satisfie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D93D3-2E01-4A59-AF30-46EA3889492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INFLUENCING</a:t>
            </a:r>
            <a:br>
              <a:rPr sz="3600"/>
            </a:b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CONSUMER DECISIONS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cc00"/>
                </a:solidFill>
                <a:latin typeface="Arial"/>
              </a:rPr>
              <a:t>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important influences on the consumer decision-making pro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how consumers and businesses use each of the three types of decision ma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8"/>
          <p:cNvSpPr/>
          <p:nvPr/>
        </p:nvSpPr>
        <p:spPr>
          <a:xfrm>
            <a:off x="152280" y="152280"/>
            <a:ext cx="1371600" cy="914400"/>
          </a:xfrm>
          <a:prstGeom prst="roundRect">
            <a:avLst>
              <a:gd name="adj" fmla="val 16667"/>
            </a:avLst>
          </a:prstGeom>
          <a:solidFill>
            <a:srgbClr val="ca53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-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1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Slide Number Placeholder 2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E62A0-D2E4-4E3D-8B2F-037F4F87FF7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5486400" y="1801800"/>
            <a:ext cx="3429000" cy="43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1840" indent="-231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a5302"/>
                </a:solidFill>
                <a:latin typeface="Arial"/>
              </a:rPr>
              <a:t>Focus Ques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advertising appealing to children, parents, or both? In what way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45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appealing about the product that would influence parents to purchase Dimetapp Cold &amp; Allergy rather than another brand of medicati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rcRect l="0" t="0" r="2457" b="0"/>
          <a:stretch/>
        </p:blipFill>
        <p:spPr>
          <a:xfrm>
            <a:off x="5267160" y="609480"/>
            <a:ext cx="3632400" cy="72072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4"/>
          <p:cNvSpPr/>
          <p:nvPr/>
        </p:nvSpPr>
        <p:spPr>
          <a:xfrm rot="16200000">
            <a:off x="180360" y="5748480"/>
            <a:ext cx="76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WYET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COP06_Dimetapp"/>
          <p:cNvPicPr/>
          <p:nvPr/>
        </p:nvPicPr>
        <p:blipFill>
          <a:blip r:embed="rId2"/>
          <a:stretch/>
        </p:blipFill>
        <p:spPr>
          <a:xfrm>
            <a:off x="0" y="0"/>
            <a:ext cx="53341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EC7B1-AEC4-4163-BEF1-BE195658EFD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Influences on Buying Decisions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ny internal and external factors influence purchase decisio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wo important factors ar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70320" indent="-333000">
              <a:spcBef>
                <a:spcPts val="10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ividual characteris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70320" indent="-333000">
              <a:spcBef>
                <a:spcPts val="10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ltural and social enviro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AE2DE-B08C-44E1-B01F-971FD002C7D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Individual Characteristics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100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al Identit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haracteristics &amp; character that make a person unique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jor influence on buying deci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287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00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 Important Factors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20F58-FB38-47AE-9B56-88B5913579A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Personal Identity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ca5302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ersonalit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an enduring pattern of emotions and behaviors that define an individua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8040" indent="-533520">
              <a:spcBef>
                <a:spcPts val="1001"/>
              </a:spcBef>
              <a:buClr>
                <a:srgbClr val="00a5e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Attitud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a frame of mind developed from a person’s values, beliefs and feeling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CFCA6-A437-4632-9465-A0AB6127BA2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Personal Identity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78040" indent="-533520">
              <a:spcBef>
                <a:spcPts val="10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elf-Concep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an individual’s belief about his or her identity, image, and capabiliti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78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8040" indent="-533520">
              <a:spcBef>
                <a:spcPts val="10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Lifestyl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the way a person lives as reflected by material goods, activities, and relationship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414CF-CF47-4EB9-9927-CF7220E3A36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Personal Identity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spcBef>
                <a:spcPts val="1001"/>
              </a:spcBef>
              <a:buClr>
                <a:srgbClr val="ca5302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Gende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othes, Grooming, Relationships, Activities, etc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1001"/>
              </a:spcBef>
              <a:buClr>
                <a:srgbClr val="ca5302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thnicit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cestry, Country of Origin, Language, Trad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1001"/>
              </a:spcBef>
              <a:buClr>
                <a:srgbClr val="ca5302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g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e of products/serv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ED3A8-DD59-4653-A532-A4BB41938A9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Cultural and Social Environment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74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 u="sng">
                <a:solidFill>
                  <a:srgbClr val="000000"/>
                </a:solidFill>
                <a:uFillTx/>
                <a:latin typeface="Arial"/>
              </a:rPr>
              <a:t>Culture</a:t>
            </a: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: the history, beliefs, customs &amp; traditions of a group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ong Influence on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Values and Behavi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74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ivities &amp; Relationships, shared by people over many generations.</a:t>
            </a: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AFDE0-A80B-4A6E-8416-2B5A7FEE44E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Cultural and Social Environment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ocial Environmen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groups and organizations that people live and interact with on regular bas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0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unity, Neighborhood, Social or Business Organization, Church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861E3-7B57-44E6-8EF2-4CF9DC9E40D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Cultural and Social Environment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eference Group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 group of people or an organization that an individual admires, identifies with, and wants to be a part of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ubs, Social Organizations, Business Grou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AE926-42D3-46ED-B986-2ED79E9ECA8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Types of Decision-Making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umers spend varying amounts of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im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onsider different factor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when making decision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Types of Decision Making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8C302-3FCC-4755-908B-763368267F5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Types of Decision-Making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ca53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utine Decision Ma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78040" indent="-533520">
              <a:spcBef>
                <a:spcPts val="1100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chase made frequent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878040" indent="-533520">
              <a:spcBef>
                <a:spcPts val="1100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not require much thou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878040" indent="-533520">
              <a:spcBef>
                <a:spcPts val="1100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iar with product/br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A96B4-D2A5-4732-BA5C-C9061709C5D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UNDERSTANDING </a:t>
            </a:r>
            <a:br>
              <a:rPr sz="3600"/>
            </a:b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CONSUMER BEHAVIOR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cc00"/>
                </a:solidFill>
                <a:latin typeface="Arial"/>
              </a:rPr>
              <a:t>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the importance of understanding consumer behavi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nstrate an understanding of consumers’ wants and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8"/>
          <p:cNvSpPr/>
          <p:nvPr/>
        </p:nvSpPr>
        <p:spPr>
          <a:xfrm>
            <a:off x="152280" y="152280"/>
            <a:ext cx="1371600" cy="914400"/>
          </a:xfrm>
          <a:prstGeom prst="roundRect">
            <a:avLst>
              <a:gd name="adj" fmla="val 16667"/>
            </a:avLst>
          </a:prstGeom>
          <a:solidFill>
            <a:srgbClr val="ca53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-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99BAD-948B-4D80-B700-BD65CDEF619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Types of Decision-Making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spcBef>
                <a:spcPts val="1100"/>
              </a:spcBef>
              <a:buClr>
                <a:srgbClr val="ca5302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mited Decision Mak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816480" indent="-496080">
              <a:spcBef>
                <a:spcPts val="10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re time to consider deci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16480" indent="-496080">
              <a:spcBef>
                <a:spcPts val="10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ybe more expensive produ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16480" indent="-496080">
              <a:spcBef>
                <a:spcPts val="10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ybe purchase less frequent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16480" indent="-496080">
              <a:spcBef>
                <a:spcPts val="10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utine product is unavail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59525-946C-41F1-8E9F-CF05675AFA6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Types of Decision-Making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ca5302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nsive Decision Ma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78040" indent="-533520">
              <a:spcBef>
                <a:spcPts val="10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 through all 5 D.M.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78040" indent="-533520">
              <a:spcBef>
                <a:spcPts val="950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ensive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(home, car, vacation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78040" indent="-533520">
              <a:spcBef>
                <a:spcPts val="950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valuate alternatives extensively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811B1-5598-42C2-AD56-D41BA707599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Marketers’ Response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rketers need to understand how customers make decisions so that they can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rovide customer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with the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right amount of inf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onvince consumer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to purchase their produc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CCCE2-1136-4888-9F01-D19919CCCEC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Marketers’ Response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ters want the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opportunity to explain the benefit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of their products and to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emonstrate how they can satisfy consumer need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ED97B-C84D-4B2C-8506-8250399BC5C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Marketers’ Response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ermine whether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lnSpc>
                <a:spcPct val="90000"/>
              </a:lnSpc>
              <a:spcBef>
                <a:spcPts val="10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onsumer considers alterna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341280">
              <a:lnSpc>
                <a:spcPct val="90000"/>
              </a:lnSpc>
              <a:spcBef>
                <a:spcPts val="9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ve opportunity to explain their products and benef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lnSpc>
                <a:spcPct val="90000"/>
              </a:lnSpc>
              <a:spcBef>
                <a:spcPts val="10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onsumer is brand loy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341280">
              <a:lnSpc>
                <a:spcPct val="90000"/>
              </a:lnSpc>
              <a:spcBef>
                <a:spcPts val="9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ke product available, remind customer of the value of produ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8BCB5-2AC5-4579-A055-6D15193018C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Consumer Behavior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ting Begins with Custo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ting Concept st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700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be responsive to consu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sumer Behavi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he study of consumers and how they make decis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9F0AA-232D-4CC7-AD9C-DC7BB0D7001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Consumer Behavior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ccessful business continually:</a:t>
            </a:r>
            <a:br>
              <a:rPr sz="3200"/>
            </a:br>
            <a:br>
              <a:rPr sz="3200"/>
            </a:b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sider customers’ wants and needs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they</a:t>
            </a:r>
            <a:br>
              <a:rPr sz="3200"/>
            </a:br>
            <a:br>
              <a:rPr sz="3200"/>
            </a:b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lan &amp; implement their marketing strate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CF973-8C53-489B-9E5E-1DF5F9B7538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Consumer Behavior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inal consu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700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y products/services for personal u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usiness consu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700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y goods/services to produce and market other goods/services or for resa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20347-D676-4B55-BBA0-C3DC2EE98F4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Consumers’ Wants and Needs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consumers have wants and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n unfulfilled des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700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zza, BMW, Vacation to Fra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ir Highlights, Super Bowl Ticke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e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nything you require to l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700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tritious Food, Sleep, Shelter from Weather, Air to Breathe, Clean 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2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DFF35-3B9B-447A-8506-673D98C05F5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Maslow’s Hierarchy of Needs</a:t>
            </a:r>
            <a:br>
              <a:rPr sz="3600"/>
            </a:b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Page 158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grpSp>
        <p:nvGrpSpPr>
          <p:cNvPr id="140" name="Group 26"/>
          <p:cNvGrpSpPr/>
          <p:nvPr/>
        </p:nvGrpSpPr>
        <p:grpSpPr>
          <a:xfrm>
            <a:off x="685800" y="1866600"/>
            <a:ext cx="4648320" cy="4305240"/>
            <a:chOff x="685800" y="1866600"/>
            <a:chExt cx="4648320" cy="4305240"/>
          </a:xfrm>
        </p:grpSpPr>
        <p:pic>
          <p:nvPicPr>
            <p:cNvPr id="141" name="Picture 27" descr=""/>
            <p:cNvPicPr/>
            <p:nvPr/>
          </p:nvPicPr>
          <p:blipFill>
            <a:blip r:embed="rId1"/>
            <a:srcRect l="10742" t="75738" r="42465" b="3685"/>
            <a:stretch/>
          </p:blipFill>
          <p:spPr>
            <a:xfrm>
              <a:off x="685800" y="5230800"/>
              <a:ext cx="4648320" cy="914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2" name="Group 28"/>
            <p:cNvGrpSpPr/>
            <p:nvPr/>
          </p:nvGrpSpPr>
          <p:grpSpPr>
            <a:xfrm>
              <a:off x="685800" y="1866600"/>
              <a:ext cx="4648320" cy="4305240"/>
              <a:chOff x="685800" y="1866600"/>
              <a:chExt cx="4648320" cy="4305240"/>
            </a:xfrm>
          </p:grpSpPr>
          <p:sp>
            <p:nvSpPr>
              <p:cNvPr id="143" name="AutoShape 29"/>
              <p:cNvSpPr/>
              <p:nvPr/>
            </p:nvSpPr>
            <p:spPr>
              <a:xfrm flipH="1" flipV="1">
                <a:off x="2971800" y="1866240"/>
                <a:ext cx="2362320" cy="4305240"/>
              </a:xfrm>
              <a:prstGeom prst="rtTriangl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AutoShape 30"/>
              <p:cNvSpPr/>
              <p:nvPr/>
            </p:nvSpPr>
            <p:spPr>
              <a:xfrm flipV="1">
                <a:off x="685800" y="1866240"/>
                <a:ext cx="2362320" cy="4305240"/>
              </a:xfrm>
              <a:prstGeom prst="rtTriangl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5" name="Group 22"/>
          <p:cNvGrpSpPr/>
          <p:nvPr/>
        </p:nvGrpSpPr>
        <p:grpSpPr>
          <a:xfrm>
            <a:off x="685800" y="1866600"/>
            <a:ext cx="4648320" cy="4305240"/>
            <a:chOff x="685800" y="1866600"/>
            <a:chExt cx="4648320" cy="4305240"/>
          </a:xfrm>
        </p:grpSpPr>
        <p:pic>
          <p:nvPicPr>
            <p:cNvPr id="146" name="Picture 23" descr=""/>
            <p:cNvPicPr/>
            <p:nvPr/>
          </p:nvPicPr>
          <p:blipFill>
            <a:blip r:embed="rId2"/>
            <a:srcRect l="10742" t="58585" r="42465" b="3685"/>
            <a:stretch/>
          </p:blipFill>
          <p:spPr>
            <a:xfrm>
              <a:off x="685800" y="4468680"/>
              <a:ext cx="464832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AutoShape 24"/>
            <p:cNvSpPr/>
            <p:nvPr/>
          </p:nvSpPr>
          <p:spPr>
            <a:xfrm flipH="1" flipV="1">
              <a:off x="2971800" y="1866240"/>
              <a:ext cx="2362320" cy="430524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AutoShape 25"/>
            <p:cNvSpPr/>
            <p:nvPr/>
          </p:nvSpPr>
          <p:spPr>
            <a:xfrm flipV="1">
              <a:off x="685800" y="1866240"/>
              <a:ext cx="2362320" cy="430524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Group 18"/>
          <p:cNvGrpSpPr/>
          <p:nvPr/>
        </p:nvGrpSpPr>
        <p:grpSpPr>
          <a:xfrm>
            <a:off x="685800" y="1866600"/>
            <a:ext cx="4662000" cy="4305240"/>
            <a:chOff x="685800" y="1866600"/>
            <a:chExt cx="4662000" cy="4305240"/>
          </a:xfrm>
        </p:grpSpPr>
        <p:pic>
          <p:nvPicPr>
            <p:cNvPr id="150" name="Picture 19" descr=""/>
            <p:cNvPicPr/>
            <p:nvPr/>
          </p:nvPicPr>
          <p:blipFill>
            <a:blip r:embed="rId3"/>
            <a:srcRect l="10770" t="41171" r="42440" b="3702"/>
            <a:stretch/>
          </p:blipFill>
          <p:spPr>
            <a:xfrm>
              <a:off x="689040" y="3695760"/>
              <a:ext cx="4647960" cy="24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AutoShape 20"/>
            <p:cNvSpPr/>
            <p:nvPr/>
          </p:nvSpPr>
          <p:spPr>
            <a:xfrm flipH="1" flipV="1">
              <a:off x="2985480" y="1866240"/>
              <a:ext cx="2361960" cy="430524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AutoShape 21"/>
            <p:cNvSpPr/>
            <p:nvPr/>
          </p:nvSpPr>
          <p:spPr>
            <a:xfrm flipV="1">
              <a:off x="685800" y="1866240"/>
              <a:ext cx="2362320" cy="430524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Group 14"/>
          <p:cNvGrpSpPr/>
          <p:nvPr/>
        </p:nvGrpSpPr>
        <p:grpSpPr>
          <a:xfrm>
            <a:off x="685800" y="1866600"/>
            <a:ext cx="4648320" cy="4305240"/>
            <a:chOff x="685800" y="1866600"/>
            <a:chExt cx="4648320" cy="4305240"/>
          </a:xfrm>
        </p:grpSpPr>
        <p:pic>
          <p:nvPicPr>
            <p:cNvPr id="154" name="Picture 15" descr=""/>
            <p:cNvPicPr/>
            <p:nvPr/>
          </p:nvPicPr>
          <p:blipFill>
            <a:blip r:embed="rId4"/>
            <a:srcRect l="10742" t="24270" r="42465" b="3685"/>
            <a:stretch/>
          </p:blipFill>
          <p:spPr>
            <a:xfrm>
              <a:off x="685800" y="2944800"/>
              <a:ext cx="464832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AutoShape 16"/>
            <p:cNvSpPr/>
            <p:nvPr/>
          </p:nvSpPr>
          <p:spPr>
            <a:xfrm flipH="1" flipV="1">
              <a:off x="2971800" y="1866240"/>
              <a:ext cx="2362320" cy="430524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AutoShape 17"/>
            <p:cNvSpPr/>
            <p:nvPr/>
          </p:nvSpPr>
          <p:spPr>
            <a:xfrm flipV="1">
              <a:off x="685800" y="1866240"/>
              <a:ext cx="2362320" cy="430524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Group 13"/>
          <p:cNvGrpSpPr/>
          <p:nvPr/>
        </p:nvGrpSpPr>
        <p:grpSpPr>
          <a:xfrm>
            <a:off x="685800" y="1866600"/>
            <a:ext cx="4648320" cy="4305240"/>
            <a:chOff x="685800" y="1866600"/>
            <a:chExt cx="4648320" cy="4305240"/>
          </a:xfrm>
        </p:grpSpPr>
        <p:pic>
          <p:nvPicPr>
            <p:cNvPr id="158" name="Picture 9" descr=""/>
            <p:cNvPicPr/>
            <p:nvPr/>
          </p:nvPicPr>
          <p:blipFill>
            <a:blip r:embed="rId5"/>
            <a:srcRect l="10742" t="0" r="42465" b="3685"/>
            <a:stretch/>
          </p:blipFill>
          <p:spPr>
            <a:xfrm>
              <a:off x="685800" y="1866960"/>
              <a:ext cx="4648320" cy="427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AutoShape 10"/>
            <p:cNvSpPr/>
            <p:nvPr/>
          </p:nvSpPr>
          <p:spPr>
            <a:xfrm flipH="1" flipV="1">
              <a:off x="2971800" y="1866240"/>
              <a:ext cx="2362320" cy="430524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AutoShape 11"/>
            <p:cNvSpPr/>
            <p:nvPr/>
          </p:nvSpPr>
          <p:spPr>
            <a:xfrm flipV="1">
              <a:off x="685800" y="1866240"/>
              <a:ext cx="2362320" cy="430524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Text Box 4"/>
          <p:cNvSpPr/>
          <p:nvPr/>
        </p:nvSpPr>
        <p:spPr>
          <a:xfrm>
            <a:off x="3813480" y="2971800"/>
            <a:ext cx="28310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a5302"/>
                </a:solidFill>
                <a:latin typeface="Arial"/>
              </a:rPr>
              <a:t>Este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espect and recogni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4277520" y="3733920"/>
            <a:ext cx="28051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a5302"/>
                </a:solidFill>
                <a:latin typeface="Arial"/>
              </a:rPr>
              <a:t>So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riends, love, belong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4694760" y="4454640"/>
            <a:ext cx="42912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a5302"/>
                </a:solidFill>
                <a:latin typeface="Arial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hysical safety and economic securit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5107680" y="5292720"/>
            <a:ext cx="34560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a5302"/>
                </a:solidFill>
                <a:latin typeface="Arial"/>
              </a:rPr>
              <a:t>Physiolog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ood, sleep, water, shelter, ai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3432240" y="2244600"/>
            <a:ext cx="28188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a5302"/>
                </a:solidFill>
                <a:latin typeface="Arial"/>
              </a:rPr>
              <a:t>Self-Actual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 realize your potenti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A4E66-77B0-4C2E-878C-E6AC534EEEC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Different People, Different Levels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ters must realize that people are at different levels on the hierarchy of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low’s Hierarchy of needs illustrates the progression people follow in satisfying their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ters must understand consumer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7T01:09:05Z</dcterms:created>
  <dc:creator/>
  <dc:description/>
  <dc:language>en-US</dc:language>
  <cp:lastModifiedBy>jsundlin</cp:lastModifiedBy>
  <dcterms:modified xsi:type="dcterms:W3CDTF">2012-11-27T18:19:16Z</dcterms:modified>
  <cp:revision>49</cp:revision>
  <dc:subject/>
  <dc:title>MARKETING STARTS  WITH CUSTOMERS</dc:title>
</cp:coreProperties>
</file>